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6D3A-942B-4645-8FE5-A511B9838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441F-41A3-4CC0-A8C6-D3F8763E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6CC9-E71E-4823-B5F6-46454C604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30B5-B5D2-47FF-98D6-28A1F15D9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E836-EBE3-4F39-AD21-07B8F833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843B-7B5F-47B3-8317-242FD204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5D40-B115-41E4-BABF-60D4F389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145D-F51F-4766-9820-03A74330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65BE-C7F6-441C-9AAC-0C40E0D5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925C-2524-4815-A572-4FE51484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5F05-64CD-4E89-958A-34268149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7E77-0DBF-4717-A640-61192A6B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82EF-F43A-4DB7-B626-1F32B227D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2293976XTGQRC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562720"/>
            <a:ext cx="91440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بتهجتْ نفسي بالقائلينَ لي إلى بيتِ الرَّبِّ نَنْطلِقُ</a:t>
            </a:r>
            <a:br>
              <a:rPr sz="3800"/>
            </a:b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لى بيتِ الرَّبِّ نَنَطلِقُ   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بترنيمِ الفرحِ ندخُلُ إلى ديارِهِ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8582370xalGHMKHkU_ph" descr=""/>
          <p:cNvPicPr/>
          <p:nvPr/>
        </p:nvPicPr>
        <p:blipFill>
          <a:blip r:embed="rId1"/>
          <a:stretch/>
        </p:blipFill>
        <p:spPr>
          <a:xfrm>
            <a:off x="0" y="23760"/>
            <a:ext cx="9144000" cy="5234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63868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486400"/>
            <a:ext cx="91440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قد وقفتْ أقدامُنا في أبوابِكِ يا أورشليمُ،</a:t>
            </a:r>
            <a:br>
              <a:rPr sz="3800"/>
            </a:br>
            <a:r>
              <a:rPr b="1" lang="ar-SA" sz="3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إليكِ صَعِد شعبُ اللهِ حَسَبَ دعوتِهِ ليَحمدَ اسمَ الرب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32293976XTGQRC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5562720"/>
            <a:ext cx="91440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بتهجتْ نفسي بالقائلينَ لي إلى بيتِ الرَّبِّ نَنْطلِقُ</a:t>
            </a:r>
            <a:br>
              <a:rPr sz="3800"/>
            </a:b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لى بيتِ الرَّبِّ نَنَطلِقُ   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بترنيمِ الفرحِ ندخُلُ إلى ديارِهِ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31368130RjrjRHULen_ph" descr=""/>
          <p:cNvPicPr/>
          <p:nvPr/>
        </p:nvPicPr>
        <p:blipFill>
          <a:blip r:embed="rId2"/>
          <a:stretch/>
        </p:blipFill>
        <p:spPr>
          <a:xfrm>
            <a:off x="-2133720" y="0"/>
            <a:ext cx="82296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248520" y="380880"/>
            <a:ext cx="2895480" cy="72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هناكَ نُصِبَ عرشٌ للحكمِ عرشُ الربِ بين شعبِهِ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نسألِ السلامَ للمؤمنينَ ليَسعدِ الذينَ يُحبُّونَهُ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32293976XTGQRC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5562720"/>
            <a:ext cx="91440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بتهجتْ نفسي بالقائلينَ لي إلى بيتِ الرَّبِّ نَنْطلِقُ</a:t>
            </a:r>
            <a:br>
              <a:rPr sz="3800"/>
            </a:b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لى بيتِ الرَّبِّ نَنَطلِقُ   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بترنيمِ الفرحِ ندخُلُ إلى ديارِهِ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38761956sSGxSS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5410080"/>
            <a:ext cx="8915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أجل إخوتي وأخِلاَّئي أدعو بالسلامِ والبَرَكة</a:t>
            </a:r>
            <a:br>
              <a:rPr sz="3800"/>
            </a:b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أجلِ بيتِ الربِّ ألتمِسُ الخيرَ فلنباركِ اللهَ كلُّن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32293976XTGQRC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5562720"/>
            <a:ext cx="91440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بتهجتْ نفسي بالقائلينَ لي إلى بيتِ الرَّبِّ نَنْطلِقُ</a:t>
            </a:r>
            <a:br>
              <a:rPr sz="3800"/>
            </a:b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لى بيتِ الرَّبِّ نَنَطلِقُ   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بترنيمِ الفرحِ ندخُلُ إلى ديارِهِ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5:34:51Z</dcterms:created>
  <dc:creator>USER</dc:creator>
  <dc:description/>
  <dc:language>en-US</dc:language>
  <cp:lastModifiedBy>USER</cp:lastModifiedBy>
  <dcterms:modified xsi:type="dcterms:W3CDTF">2003-02-08T06:32:14Z</dcterms:modified>
  <cp:revision>4</cp:revision>
  <dc:subject/>
  <dc:title>PowerPoint Presentation</dc:title>
</cp:coreProperties>
</file>